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3141-00FC-41E7-B801-02A41F3A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3A5C-F054-42A7-9EDC-1146F1C4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E4A4-3BE1-46C7-9DDA-0399AE1E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7D2F-7007-4576-A34B-DEA39954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6215-4CDD-48B9-837D-06AE5014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F38A-A127-4652-872C-F09111CF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5927-2D11-48B9-A365-79EB48DC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5F3-E3A5-4B15-B750-C1EC331E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FD6-D76E-4298-98E1-7628AD92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C5F-BF90-424A-8BFD-3DDEA083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8D1A-E035-432E-AA92-CF45E6BD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EB6D-E408-4567-95D0-E11AEDCF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A48C-EC22-49BA-8F1C-9D789520A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1523880" cy="1447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905440" y="1882800"/>
            <a:ext cx="1524240" cy="1619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800600" y="1600200"/>
            <a:ext cx="3448080" cy="4686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438280" y="4038480"/>
            <a:ext cx="15242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573880" y="3938760"/>
            <a:ext cx="2187360" cy="2187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04920" y="1905120"/>
            <a:ext cx="5181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s form 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etals almost alway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ose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their outer electrons, forming positiv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ation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 elec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ach time, the metals lose their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outermost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valence electrons,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the energy level  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below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 i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ull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metals form A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nmetals almost always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gai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electrons, and  become negativ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nion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 + 1e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ne now has 18 e, ju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Arg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+ 2e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 + 3e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time, the nonmetals gains the number of electrons needed to obtain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8 valenc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xidation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atom would have if it became a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out your Periodic Table and label the A Groups as follow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Silver = +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Zinc 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Cadmium 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5105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encl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omenclatur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is a system for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aming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chemical comp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ve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cific r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must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e will start with the simplest type of ionic compound, a binary ionic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Binary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- means just </a:t>
            </a: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two elements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are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414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149d"/>
                </a:solidFill>
                <a:latin typeface="Arial"/>
              </a:rPr>
              <a:t>Ionic Bond-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-means a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metal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 with a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non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Binary Ionic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ookman Old Style"/>
              </a:rPr>
              <a:t>1. Name t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Bookman Old Style"/>
              </a:rPr>
              <a:t>metal </a:t>
            </a:r>
            <a:r>
              <a:rPr b="0" lang="en-US" sz="3200" spc="-1" strike="noStrike">
                <a:solidFill>
                  <a:srgbClr val="0000ff"/>
                </a:solidFill>
                <a:latin typeface="Bookman Old Style"/>
              </a:rPr>
              <a:t>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2. Then name the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Bookman Old Style"/>
              </a:rPr>
              <a:t>nonmetal,</a:t>
            </a: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            </a:t>
            </a: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with an “</a:t>
            </a:r>
            <a:r>
              <a:rPr b="1" lang="en-US" sz="3200" spc="-1" strike="noStrike" u="sng">
                <a:solidFill>
                  <a:srgbClr val="b4149d"/>
                </a:solidFill>
                <a:uFillTx/>
                <a:latin typeface="Bookman Old Style"/>
              </a:rPr>
              <a:t>ide”</a:t>
            </a: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 e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d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chlor</a:t>
            </a:r>
            <a:r>
              <a:rPr b="1" lang="en-US" sz="2800" spc="-1" strike="noStrike" u="sng">
                <a:solidFill>
                  <a:srgbClr val="b4149d"/>
                </a:solidFill>
                <a:uFillTx/>
                <a:latin typeface="Arial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hium brom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fluor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ula Writing f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nary Ioni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414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Sometimes you will be given the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name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 of a compound and be asked to write the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chemical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s requires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thre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careful steps, and a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periodic tabl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Do not guess.   Follow the step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lmost right” i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wr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Writing Example:  Aluminum 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63244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EP 1:  write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ymbol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 metal first, then nonmetal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l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2:  above each symbol, write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oxidation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l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+3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O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Ad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bscrip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that the overall charge of the compound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e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(“criss-cross” + 6 and - 6 =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tep 4: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(Erase the oxidation numbers, they are NOT  part of the formula, they just help us get the correct subscripts!)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l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705720" y="1828800"/>
            <a:ext cx="2438280" cy="1920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629400" y="4038480"/>
            <a:ext cx="2133720" cy="157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+3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 2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= 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2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 3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= 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Transition Metals – Groups 3 – 12   </a:t>
            </a:r>
            <a:br>
              <a:rPr sz="3200"/>
            </a:b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                              The B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ransition metals have more than one possib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xidation 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(Sometimes they give away one electron, sometimes two, etc.  up to losing 7 electrons!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ver is always +1, Zinc is always +2, and Cadmium is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ther metals like Lead and Tin, also requir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man Numer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aming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eleme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roman numeral?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It’s faster to say which ones don’t!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here are a few others, but we won’t ask about them—oka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8763120" cy="4754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280" y="1523880"/>
            <a:ext cx="990720" cy="358164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3048120"/>
            <a:ext cx="533520" cy="106668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3657600"/>
            <a:ext cx="533520" cy="4572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2666880"/>
            <a:ext cx="457200" cy="144792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26668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26668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67480" y="36576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3124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24680" y="40384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31240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10280" y="35812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40384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6248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ark these on your periodic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hree types of chemical bonds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on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val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tal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type of bond we will study i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ONIC B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onic bond is an electrostatic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a positive particle, also known a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a negative particle, also known as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 Num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per (I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 (I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ium (II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 (IV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helpful to label your periodic table with the oxidation states of the common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ing Transition Metal Compoun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cept zinc, cadmium—always +2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ilver always +1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If you notice that the formula of a compound has a transition metal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except Zn, Cd, A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you </a:t>
            </a:r>
            <a:r>
              <a:rPr b="0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a Roman numeral in the compound nam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ron (II)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opper (II)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hromium (II) nit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the Roman numer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sponds to the subscript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THER AT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Transition Metal Formula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cept zinc, cadmium—always +2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ilver always +1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pper (II) fluor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cc"/>
                </a:solidFill>
                <a:uFillTx/>
                <a:latin typeface="Arial"/>
              </a:rPr>
              <a:t>Step 1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Write element symbols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C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tep 2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Put oxidation numbers above each element (The Roman numeral “(II)” gives the oxidation number for copper as +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u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2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subscripts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the charge total = ze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 “criss-cross”.  </a:t>
            </a:r>
            <a:r>
              <a:rPr b="0" lang="en-US" sz="2400" spc="-1" strike="noStrike">
                <a:solidFill>
                  <a:srgbClr val="b4149d"/>
                </a:solidFill>
                <a:latin typeface="Arial"/>
              </a:rPr>
              <a:t>Note: Use parentheses if you need more than one of a polyatomic ion on other form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149d"/>
                </a:solidFill>
                <a:latin typeface="Arial"/>
              </a:rPr>
              <a:t>Copper II 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--- &gt;   C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b4149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formulas for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 (I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per (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(IV)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following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atomic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mon chemical formulas contain polyatomic ions, which are groups of atom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n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gether, that carry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r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your list of polyatomic ions ON your class periodic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atomic i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y 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a group as they undergo rea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Polyatomic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Hydroxid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Nitrat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Sulfat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man Old Style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Chlorat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Cl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4149d"/>
                </a:solidFill>
                <a:latin typeface="Bookman Old Style"/>
              </a:rPr>
              <a:t>Ammonium </a:t>
            </a:r>
            <a:r>
              <a:rPr b="1" lang="en-US" sz="2800" spc="-1" strike="noStrike">
                <a:solidFill>
                  <a:srgbClr val="b4149d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b4149d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b4149d"/>
                </a:solidFill>
                <a:latin typeface="Bookman Old Style"/>
              </a:rPr>
              <a:t>NH</a:t>
            </a:r>
            <a:r>
              <a:rPr b="1" lang="en-US" sz="2800" spc="-1" strike="noStrike" baseline="-25000">
                <a:solidFill>
                  <a:srgbClr val="b4149d"/>
                </a:solidFill>
                <a:latin typeface="Bookman Old Style"/>
              </a:rPr>
              <a:t>4</a:t>
            </a:r>
            <a:r>
              <a:rPr b="1" lang="en-US" sz="2800" spc="-1" strike="noStrike" baseline="30000">
                <a:solidFill>
                  <a:srgbClr val="b4149d"/>
                </a:solidFill>
                <a:latin typeface="Bookman Old Style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yatomic ions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eaning they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tra elect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Ammonium is the </a:t>
            </a:r>
            <a:r>
              <a:rPr b="0" lang="en-US" sz="2800" spc="-1" strike="noStrike" u="sng">
                <a:solidFill>
                  <a:srgbClr val="b4149d"/>
                </a:solidFill>
                <a:uFillTx/>
                <a:latin typeface="Arial"/>
              </a:rPr>
              <a:t>only 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polyatomic ion </a:t>
            </a:r>
            <a:r>
              <a:rPr b="1" i="1" lang="en-US" sz="2800" spc="-1" strike="noStrike">
                <a:solidFill>
                  <a:srgbClr val="b4149d"/>
                </a:solidFill>
                <a:latin typeface="Arial"/>
              </a:rPr>
              <a:t>we use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 that is </a:t>
            </a:r>
            <a:r>
              <a:rPr b="0" lang="en-US" sz="2800" spc="-1" strike="noStrike" u="sng">
                <a:solidFill>
                  <a:srgbClr val="b4149d"/>
                </a:solidFill>
                <a:uFillTx/>
                <a:latin typeface="Arial"/>
              </a:rPr>
              <a:t>positive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.  It has given away an electr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s with Polyatomic 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ompounds will have at lea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ree 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metal, and the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lyato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et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then the polyatomic ion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on’t change the name of the polyatomic 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Ternary Compound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3 or more eleme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sulf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mon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Cl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se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ree or 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ok for a hidde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ver say “calcium sulfur oxid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Formulas for Compound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taining Polyatomic 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ut a periodic table and a formula chart with the polyatomic ions o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three step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Example: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Calcium 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man Old Style"/>
              </a:rPr>
              <a:t>Step 1  Write the symbols (polyatomic ion formu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man Old Style"/>
              </a:rPr>
              <a:t>          </a:t>
            </a:r>
            <a:r>
              <a:rPr b="0" lang="en-US" sz="2800" spc="-1" strike="noStrike">
                <a:solidFill>
                  <a:srgbClr val="006600"/>
                </a:solidFill>
                <a:latin typeface="Bookman Old Style"/>
              </a:rPr>
              <a:t>representing the name given)    </a:t>
            </a:r>
            <a:r>
              <a:rPr b="1" lang="en-US" sz="2800" spc="-1" strike="noStrike">
                <a:solidFill>
                  <a:srgbClr val="006600"/>
                </a:solidFill>
                <a:latin typeface="Bookman Old Style"/>
              </a:rPr>
              <a:t>CaCl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Bookman Old Styl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Bookman Old Style"/>
              </a:rPr>
              <a:t>Step 2  Label charge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6600cc"/>
                </a:solidFill>
                <a:latin typeface="Bookman Old Style"/>
              </a:rPr>
              <a:t>C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Bookman Old Style"/>
              </a:rPr>
              <a:t>+2 </a:t>
            </a:r>
            <a:r>
              <a:rPr b="1" lang="en-US" sz="2800" spc="-1" strike="noStrike">
                <a:solidFill>
                  <a:srgbClr val="6600cc"/>
                </a:solidFill>
                <a:latin typeface="Bookman Old Style"/>
              </a:rPr>
              <a:t>ClO</a:t>
            </a:r>
            <a:r>
              <a:rPr b="1" lang="en-US" sz="2800" spc="-1" strike="noStrike" baseline="-25000">
                <a:solidFill>
                  <a:srgbClr val="6600cc"/>
                </a:solidFill>
                <a:latin typeface="Bookman Old Style"/>
              </a:rPr>
              <a:t>3</a:t>
            </a:r>
            <a:r>
              <a:rPr b="1" lang="en-US" sz="2800" spc="-1" strike="noStrike" baseline="30000">
                <a:solidFill>
                  <a:srgbClr val="6600cc"/>
                </a:solidFill>
                <a:latin typeface="Bookman Old Style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man Old Style"/>
              </a:rPr>
              <a:t>Step 3  Write subscripts that balance the 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man Old Style"/>
              </a:rPr>
              <a:t>               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Bookman Old Style"/>
              </a:rPr>
              <a:t>Ca(Cl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Bookman Old Style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Bookman Old Style"/>
              </a:rPr>
              <a:t>)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Bookman Old Styl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Bookman Old Style"/>
              </a:rPr>
              <a:t>Step 4:  Erase charges from you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perties of Ionic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Many ionic compounds </a:t>
            </a: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dissolve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414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Solutions of ionic compounds conduct electricity.  Ions can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move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se solutions are called “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Electrolyt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Ionic compounds have </a:t>
            </a:r>
            <a:r>
              <a:rPr b="0" lang="en-US" sz="3200" spc="-1" strike="noStrike" u="sng">
                <a:solidFill>
                  <a:srgbClr val="663300"/>
                </a:solidFill>
                <a:uFillTx/>
                <a:latin typeface="Arial"/>
              </a:rPr>
              <a:t>very high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melting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hen melted “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molten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” they conduct electricity.  Ions can move!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(melted salts are conduc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ist as crystals in a “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crystal lattice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Dot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we can understand the formation of an ionic bond, we need to know two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ctet R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ne of the most important rules in chemi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writ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ctron Dot No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ach element on the Periodic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ids that we will study in this unit are easy to recognize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y contain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one or more hydrogen atoms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at the beginning of their form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 acid is a compound that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dissociat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(splits up) in water to produc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hydroge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Hydrochloric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s apart in water to 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hydrogen ions and chloride 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10960" y="5410080"/>
            <a:ext cx="450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Bookman Old Style"/>
              </a:rPr>
              <a:t>HCl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4400" spc="-1" strike="noStrike">
                <a:solidFill>
                  <a:srgbClr val="b4149d"/>
                </a:solidFill>
                <a:latin typeface="Bookman Old Style"/>
              </a:rPr>
              <a:t>H</a:t>
            </a:r>
            <a:r>
              <a:rPr b="1" lang="en-US" sz="4400" spc="-1" strike="noStrike" baseline="30000">
                <a:solidFill>
                  <a:srgbClr val="b4149d"/>
                </a:solidFill>
                <a:latin typeface="Bookman Old Style"/>
              </a:rPr>
              <a:t>+1</a:t>
            </a:r>
            <a:r>
              <a:rPr b="1" lang="en-US" sz="4400" spc="-1" strike="noStrike">
                <a:solidFill>
                  <a:srgbClr val="b4149d"/>
                </a:solidFill>
                <a:latin typeface="Bookman Old Style"/>
              </a:rPr>
              <a:t>  +  Cl</a:t>
            </a:r>
            <a:r>
              <a:rPr b="1" lang="en-US" sz="4400" spc="-1" strike="noStrike" baseline="30000">
                <a:solidFill>
                  <a:srgbClr val="b4149d"/>
                </a:solidFill>
                <a:latin typeface="Bookman Old Style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inary Acid Nomencl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Binary means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two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These will have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hydrogen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one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other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. Use the prefix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ydro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. Put an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–ic ending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on th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. Add the word “ac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dro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chl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B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dro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bro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dro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flu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Oxy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cids will cont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lyatomic 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has one or mo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xyg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ion ends in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–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 it to an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–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Nitr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tains the nitr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Sulfur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tains the sulf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Yuck! I ATE something ICKY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553080" y="441972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Oxyaci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the polyatomic ion ends in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–i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change it to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–o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word “ac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Nit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i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u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i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ites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are delici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29999" t="0" r="4996" b="0"/>
          <a:stretch/>
        </p:blipFill>
        <p:spPr>
          <a:xfrm>
            <a:off x="5943600" y="4132440"/>
            <a:ext cx="28195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Dot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represents the elem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ts repres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al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tern for drawing electrons helps us to understand how atoms lose or gain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ximum number of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8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680" y="2895480"/>
            <a:ext cx="2057400" cy="1892520"/>
            <a:chOff x="6781680" y="2895480"/>
            <a:chExt cx="2057400" cy="18925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7095960" y="3147840"/>
              <a:ext cx="142884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467480" y="28954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 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81680" y="3429000"/>
              <a:ext cx="4572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467480" y="44197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 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1880" y="3429000"/>
              <a:ext cx="4572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ctet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Octet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toms will either lose, gain, or share valence electrons in order to obtain a full set of eight (8) valence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Valence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- refers to the outer electrons in an atom.  These are the electrons on the outer shell, which is the highest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energy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on Dot 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45720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For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Representative Group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, which are also called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 Group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, the Group Number is equal to the number of valence electr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The ones digit of group numbers 1 , 2 ,  through 18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out you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iodic 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draw the electron dot notation for the first two elements in each group.  The other elements in that group will b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Use these example to help you draw dot no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4724280"/>
            <a:ext cx="8001000" cy="914400"/>
            <a:chOff x="380880" y="4724280"/>
            <a:chExt cx="8001000" cy="914400"/>
          </a:xfrm>
        </p:grpSpPr>
        <p:sp>
          <p:nvSpPr>
            <p:cNvPr id="63" name=""/>
            <p:cNvSpPr/>
            <p:nvPr/>
          </p:nvSpPr>
          <p:spPr>
            <a:xfrm>
              <a:off x="1373400" y="478008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cc"/>
                  </a:solidFill>
                  <a:latin typeface="Arial"/>
                </a:rPr>
                <a:t>B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0880" y="478476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L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62320" y="4800600"/>
              <a:ext cx="1218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2514600" y="4724280"/>
              <a:ext cx="533520" cy="380880"/>
              <a:chOff x="2514600" y="4724280"/>
              <a:chExt cx="533520" cy="380880"/>
            </a:xfrm>
          </p:grpSpPr>
          <p:sp>
            <p:nvSpPr>
              <p:cNvPr id="67" name=""/>
              <p:cNvSpPr/>
              <p:nvPr/>
            </p:nvSpPr>
            <p:spPr>
              <a:xfrm>
                <a:off x="2743200" y="47242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5480" y="4724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514600" y="49528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762120" y="4724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3880" y="4724280"/>
              <a:ext cx="152640" cy="15264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76520" y="4724280"/>
              <a:ext cx="152280" cy="15264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429000" y="4724280"/>
              <a:ext cx="533520" cy="380880"/>
              <a:chOff x="3429000" y="4724280"/>
              <a:chExt cx="533520" cy="380880"/>
            </a:xfrm>
          </p:grpSpPr>
          <p:sp>
            <p:nvSpPr>
              <p:cNvPr id="74" name=""/>
              <p:cNvSpPr/>
              <p:nvPr/>
            </p:nvSpPr>
            <p:spPr>
              <a:xfrm>
                <a:off x="3657600" y="4724280"/>
                <a:ext cx="152280" cy="152280"/>
              </a:xfrm>
              <a:prstGeom prst="ellipse">
                <a:avLst/>
              </a:prstGeom>
              <a:solidFill>
                <a:srgbClr val="b414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09880" y="4724280"/>
                <a:ext cx="152640" cy="152280"/>
              </a:xfrm>
              <a:prstGeom prst="ellipse">
                <a:avLst/>
              </a:prstGeom>
              <a:solidFill>
                <a:srgbClr val="b414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429000" y="4952880"/>
                <a:ext cx="152280" cy="152280"/>
              </a:xfrm>
              <a:prstGeom prst="ellipse">
                <a:avLst/>
              </a:prstGeom>
              <a:solidFill>
                <a:srgbClr val="b414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3657600" y="5334120"/>
              <a:ext cx="152280" cy="152280"/>
            </a:xfrm>
            <a:prstGeom prst="ellipse">
              <a:avLst/>
            </a:prstGeom>
            <a:solidFill>
              <a:srgbClr val="b414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4343400" y="4724280"/>
              <a:ext cx="533520" cy="380880"/>
              <a:chOff x="4343400" y="4724280"/>
              <a:chExt cx="533520" cy="380880"/>
            </a:xfrm>
          </p:grpSpPr>
          <p:sp>
            <p:nvSpPr>
              <p:cNvPr id="79" name=""/>
              <p:cNvSpPr/>
              <p:nvPr/>
            </p:nvSpPr>
            <p:spPr>
              <a:xfrm>
                <a:off x="4572000" y="4724280"/>
                <a:ext cx="152280" cy="1522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24280" y="4724280"/>
                <a:ext cx="152640" cy="1522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343400" y="4952880"/>
                <a:ext cx="152280" cy="1522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6920" y="5029200"/>
              <a:ext cx="152280" cy="15228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410080" y="4724280"/>
              <a:ext cx="533520" cy="380880"/>
              <a:chOff x="5410080" y="4724280"/>
              <a:chExt cx="53352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5638680" y="4724280"/>
                <a:ext cx="152280" cy="15228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790960" y="4724280"/>
                <a:ext cx="152640" cy="15228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410080" y="4952880"/>
                <a:ext cx="152280" cy="15228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5410080" y="5105520"/>
              <a:ext cx="152640" cy="1522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38680" y="5334120"/>
              <a:ext cx="152640" cy="1522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3600" y="4952880"/>
              <a:ext cx="152280" cy="1526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6400800" y="4800600"/>
              <a:ext cx="533520" cy="380880"/>
              <a:chOff x="6400800" y="4800600"/>
              <a:chExt cx="533520" cy="380880"/>
            </a:xfrm>
          </p:grpSpPr>
          <p:sp>
            <p:nvSpPr>
              <p:cNvPr id="92" name=""/>
              <p:cNvSpPr/>
              <p:nvPr/>
            </p:nvSpPr>
            <p:spPr>
              <a:xfrm>
                <a:off x="6629400" y="48006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81680" y="480060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400800" y="50292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640080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53080" y="54864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34320" y="50292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06760" y="4800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b4149d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21160" y="4800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33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7480" y="48006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54520" y="49528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0" y="48769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7543800" y="4800600"/>
              <a:ext cx="533520" cy="380880"/>
              <a:chOff x="7543800" y="4800600"/>
              <a:chExt cx="533520" cy="380880"/>
            </a:xfrm>
          </p:grpSpPr>
          <p:sp>
            <p:nvSpPr>
              <p:cNvPr id="105" name=""/>
              <p:cNvSpPr/>
              <p:nvPr/>
            </p:nvSpPr>
            <p:spPr>
              <a:xfrm>
                <a:off x="7772400" y="4800600"/>
                <a:ext cx="15228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924680" y="4800600"/>
                <a:ext cx="15264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543800" y="5029200"/>
                <a:ext cx="15228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7543800" y="5181480"/>
              <a:ext cx="152280" cy="152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24680" y="5486400"/>
              <a:ext cx="15264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2400" y="5486400"/>
              <a:ext cx="15228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29600" y="5257800"/>
              <a:ext cx="15228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229600" y="5029200"/>
              <a:ext cx="15228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eling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ne exception: 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elium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only has two electrons, and we show them as a p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toms which have a full set of valence electrons ar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very stabl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 as stable as Nobel Gases.  (stable = not rea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p th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629400" y="4038480"/>
            <a:ext cx="1876320" cy="1876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14282" r="0" b="0"/>
          <a:stretch/>
        </p:blipFill>
        <p:spPr>
          <a:xfrm>
            <a:off x="6324480" y="1905120"/>
            <a:ext cx="2257560" cy="2286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924680" y="3657600"/>
            <a:ext cx="304920" cy="30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924680" y="3657240"/>
            <a:ext cx="30492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198108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ion of an Ionic B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onic Bonds always involve the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transfer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of electrons from a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metal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to a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nonme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y do this so that each may obey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Octet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30146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dium Chloride (table sal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famous “salt” of a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ually, any ionic compound is a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al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e outer electron of the sodium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transfer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to the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en, the oppositely charged particles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stick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together by static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943600" y="1676520"/>
            <a:ext cx="2643120" cy="2643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086600" y="3657600"/>
            <a:ext cx="68580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64085" r="0" b="0"/>
          <a:stretch/>
        </p:blipFill>
        <p:spPr>
          <a:xfrm>
            <a:off x="5791320" y="4876920"/>
            <a:ext cx="26762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21:49:02Z</dcterms:created>
  <dc:creator>Katrina Cantrell</dc:creator>
  <dc:description/>
  <dc:language>en-US</dc:language>
  <cp:lastModifiedBy>dpeterson</cp:lastModifiedBy>
  <dcterms:modified xsi:type="dcterms:W3CDTF">2014-10-16T13:20:20Z</dcterms:modified>
  <cp:revision>73</cp:revision>
  <dc:subject/>
  <dc:title>Ionic Bonding</dc:title>
</cp:coreProperties>
</file>