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8ABA-A13F-4417-A171-0062E613F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00A5-FAC8-4CF7-8423-EC853AF5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2F09-B7D3-458C-B133-16CA193B2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39A5-27A0-4DAC-A6E3-7DDDE9D8E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E929-4E85-4D1F-B1C2-7061CA5A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13D4-0585-4774-8B33-335CAFD0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7492-E203-4FC6-98C9-8148C51B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869A-03B4-4572-A4AC-058538B9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250E-785D-4DBE-B538-8E608C83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6BE0-44B9-4D17-A10C-31A8CF6F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CE18-A5B5-4CF1-BF53-C46C766F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AB2B-8592-4074-A90F-2DA1B7BA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0273-3888-4E98-87B0-5A90D7F34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onic Bo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1523880" cy="1447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905440" y="1882800"/>
            <a:ext cx="1524240" cy="1619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800600" y="1600200"/>
            <a:ext cx="3448080" cy="4686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438280" y="4038480"/>
            <a:ext cx="15242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791320" y="12952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573880" y="3938760"/>
            <a:ext cx="2187360" cy="2187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04920" y="1905120"/>
            <a:ext cx="5181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ls form 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etals almost always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lose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their outer electrons, forming positiv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cations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 elect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 electr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Each time, the metals lose their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outermost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valence electrons, and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the energy level  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below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 is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full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metals form An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onmetals almost always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gain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electrons, and  become negativ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anions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 + 1e-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lorine now has 18 e, ju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Arg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 + 2e-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 + 3e-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ach time, the nonmetals gains the number of electrons needed to obtain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8 valenc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114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xidation num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 atom would have if it became a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out your Periodic Table and label the A Groups as follow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ND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ff"/>
                </a:solidFill>
                <a:latin typeface="Bookman Old Style"/>
              </a:rPr>
              <a:t>Silver = +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Bookman Old Style"/>
              </a:rPr>
              <a:t>          </a:t>
            </a:r>
            <a:r>
              <a:rPr b="1" lang="en-US" sz="2800" spc="-1" strike="noStrike">
                <a:solidFill>
                  <a:srgbClr val="0000ff"/>
                </a:solidFill>
                <a:latin typeface="Bookman Old Style"/>
              </a:rPr>
              <a:t>Zinc = 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Bookman Old Style"/>
              </a:rPr>
              <a:t>Cadmium = 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038480" y="2514600"/>
            <a:ext cx="5105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mencl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omenclature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is a system for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naming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chemical compo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ve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ecific ru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 must fol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We will start with the simplest type of ionic compound, a binary ionic comp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Binary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- means just </a:t>
            </a:r>
            <a:r>
              <a:rPr b="0" lang="en-US" sz="3200" spc="-1" strike="noStrike" u="sng">
                <a:solidFill>
                  <a:srgbClr val="6600cc"/>
                </a:solidFill>
                <a:uFillTx/>
                <a:latin typeface="Arial"/>
              </a:rPr>
              <a:t>two elements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 are pre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414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149d"/>
                </a:solidFill>
                <a:latin typeface="Arial"/>
              </a:rPr>
              <a:t>Ionic Bond-</a:t>
            </a:r>
            <a:r>
              <a:rPr b="0" lang="en-US" sz="3200" spc="-1" strike="noStrike">
                <a:solidFill>
                  <a:srgbClr val="b4149d"/>
                </a:solidFill>
                <a:latin typeface="Arial"/>
              </a:rPr>
              <a:t>-means a </a:t>
            </a:r>
            <a:r>
              <a:rPr b="0" lang="en-US" sz="3200" spc="-1" strike="noStrike" u="sng">
                <a:solidFill>
                  <a:srgbClr val="b4149d"/>
                </a:solidFill>
                <a:uFillTx/>
                <a:latin typeface="Arial"/>
              </a:rPr>
              <a:t>metal</a:t>
            </a:r>
            <a:r>
              <a:rPr b="0" lang="en-US" sz="3200" spc="-1" strike="noStrike">
                <a:solidFill>
                  <a:srgbClr val="b4149d"/>
                </a:solidFill>
                <a:latin typeface="Arial"/>
              </a:rPr>
              <a:t> with a </a:t>
            </a:r>
            <a:r>
              <a:rPr b="0" lang="en-US" sz="3200" spc="-1" strike="noStrike" u="sng">
                <a:solidFill>
                  <a:srgbClr val="b4149d"/>
                </a:solidFill>
                <a:uFillTx/>
                <a:latin typeface="Arial"/>
              </a:rPr>
              <a:t>nonme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ing Binary Ionic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Bookman Old Style"/>
              </a:rPr>
              <a:t>1. Name the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Bookman Old Style"/>
              </a:rPr>
              <a:t>metal </a:t>
            </a:r>
            <a:r>
              <a:rPr b="0" lang="en-US" sz="3200" spc="-1" strike="noStrike">
                <a:solidFill>
                  <a:srgbClr val="0000ff"/>
                </a:solidFill>
                <a:latin typeface="Bookman Old Style"/>
              </a:rPr>
              <a:t>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149d"/>
                </a:solidFill>
                <a:latin typeface="Bookman Old Style"/>
              </a:rPr>
              <a:t>2. Then name the </a:t>
            </a:r>
            <a:r>
              <a:rPr b="0" lang="en-US" sz="3200" spc="-1" strike="noStrike" u="sng">
                <a:solidFill>
                  <a:srgbClr val="b4149d"/>
                </a:solidFill>
                <a:uFillTx/>
                <a:latin typeface="Bookman Old Style"/>
              </a:rPr>
              <a:t>nonmetal,</a:t>
            </a:r>
            <a:r>
              <a:rPr b="0" lang="en-US" sz="3200" spc="-1" strike="noStrike">
                <a:solidFill>
                  <a:srgbClr val="b4149d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149d"/>
                </a:solidFill>
                <a:latin typeface="Bookman Old Style"/>
              </a:rPr>
              <a:t>            </a:t>
            </a:r>
            <a:r>
              <a:rPr b="0" lang="en-US" sz="3200" spc="-1" strike="noStrike">
                <a:solidFill>
                  <a:srgbClr val="b4149d"/>
                </a:solidFill>
                <a:latin typeface="Bookman Old Style"/>
              </a:rPr>
              <a:t>with an “</a:t>
            </a:r>
            <a:r>
              <a:rPr b="1" lang="en-US" sz="3200" spc="-1" strike="noStrike" u="sng">
                <a:solidFill>
                  <a:srgbClr val="b4149d"/>
                </a:solidFill>
                <a:uFillTx/>
                <a:latin typeface="Bookman Old Style"/>
              </a:rPr>
              <a:t>ide”</a:t>
            </a:r>
            <a:r>
              <a:rPr b="0" lang="en-US" sz="3200" spc="-1" strike="noStrike">
                <a:solidFill>
                  <a:srgbClr val="b4149d"/>
                </a:solidFill>
                <a:latin typeface="Bookman Old Style"/>
              </a:rPr>
              <a:t> en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odi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4149d"/>
                </a:solidFill>
                <a:latin typeface="Arial"/>
              </a:rPr>
              <a:t>chlor</a:t>
            </a:r>
            <a:r>
              <a:rPr b="1" lang="en-US" sz="2800" spc="-1" strike="noStrike" u="sng">
                <a:solidFill>
                  <a:srgbClr val="b4149d"/>
                </a:solidFill>
                <a:uFillTx/>
                <a:latin typeface="Arial"/>
              </a:rPr>
              <a:t>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hium brom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ium fluor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ula Writing fo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nary Ioni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414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149d"/>
                </a:solidFill>
                <a:latin typeface="Arial"/>
              </a:rPr>
              <a:t>Sometimes you will be given the </a:t>
            </a:r>
            <a:r>
              <a:rPr b="0" lang="en-US" sz="3200" spc="-1" strike="noStrike" u="sng">
                <a:solidFill>
                  <a:srgbClr val="b4149d"/>
                </a:solidFill>
                <a:uFillTx/>
                <a:latin typeface="Arial"/>
              </a:rPr>
              <a:t>name</a:t>
            </a:r>
            <a:r>
              <a:rPr b="0" lang="en-US" sz="3200" spc="-1" strike="noStrike">
                <a:solidFill>
                  <a:srgbClr val="b4149d"/>
                </a:solidFill>
                <a:latin typeface="Arial"/>
              </a:rPr>
              <a:t> of a compound and be asked to write the </a:t>
            </a:r>
            <a:r>
              <a:rPr b="0" lang="en-US" sz="3200" spc="-1" strike="noStrike" u="sng">
                <a:solidFill>
                  <a:srgbClr val="b4149d"/>
                </a:solidFill>
                <a:uFillTx/>
                <a:latin typeface="Arial"/>
              </a:rPr>
              <a:t>chemical</a:t>
            </a:r>
            <a:r>
              <a:rPr b="0" lang="en-US" sz="3200" spc="-1" strike="noStrike">
                <a:solidFill>
                  <a:srgbClr val="b4149d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b4149d"/>
                </a:solidFill>
                <a:uFillTx/>
                <a:latin typeface="Arial"/>
              </a:rPr>
              <a:t>formu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is requires </a:t>
            </a:r>
            <a:r>
              <a:rPr b="0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three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careful steps, and a </a:t>
            </a:r>
            <a:r>
              <a:rPr b="0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periodic table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Do not guess.   Follow the step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lmost right” is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wro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Writing Example:  Aluminum 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609120"/>
            <a:ext cx="63244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EP 1:  write th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symbols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, metal first, then nonmetal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l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EP 2:  above each symbol, write th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oxidation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Al</a:t>
            </a:r>
            <a:r>
              <a:rPr b="1" lang="en-US" sz="2800" spc="-1" strike="noStrike" baseline="30000">
                <a:solidFill>
                  <a:srgbClr val="cc0000"/>
                </a:solidFill>
                <a:latin typeface="Arial"/>
              </a:rPr>
              <a:t>+3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O</a:t>
            </a:r>
            <a:r>
              <a:rPr b="1" lang="en-US" sz="2800" spc="-1" strike="noStrike" baseline="30000">
                <a:solidFill>
                  <a:srgbClr val="cc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3: Ad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bscrip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 that the overall charge of the compound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ze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(“criss-cross” + 6 and - 6 =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tep 4: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(Erase the oxidation numbers, they are NOT  part of the formula, they just help us get the correct subscripts!)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l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705720" y="1828800"/>
            <a:ext cx="2438280" cy="19209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629400" y="4038480"/>
            <a:ext cx="2133720" cy="1572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+3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x 2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= +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-2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x 3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= 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b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Transition Metals – Groups 3 – 12   </a:t>
            </a:r>
            <a:br>
              <a:rPr sz="3200"/>
            </a:b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                               The B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transition metals have more than one possibl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xidation st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(Sometimes they give away one electron, sometimes two, etc.  up to losing 7 electrons!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lver is always +1, Zinc is always +2, and Cadmium is 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ther metals like Lead and Tin, also require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oman Numer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aming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element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roman numeral?</a:t>
            </a:r>
            <a:br>
              <a:rPr sz="3200"/>
            </a:b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It’s faster to say which ones don’t!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There are a few others, but we won’t ask about them—okay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52280" y="1676520"/>
            <a:ext cx="8763120" cy="47545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52280" y="1523880"/>
            <a:ext cx="990720" cy="358164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3048120"/>
            <a:ext cx="533520" cy="106668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81480" y="3657600"/>
            <a:ext cx="533520" cy="45720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72200" y="2666880"/>
            <a:ext cx="457200" cy="1447920"/>
          </a:xfrm>
          <a:prstGeom prst="rect">
            <a:avLst/>
          </a:prstGeom>
          <a:noFill/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72200" y="266688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26668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67480" y="36576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10280" y="3124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924680" y="40384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53080" y="312408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10280" y="358128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467480" y="403848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62485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Mark these on your periodic 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onic Bo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hree types of chemical bonds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on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val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tall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type of bond we will study is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ONIC BO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onic bond is an electrostatic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ttra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ween a positive particle, also known as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a negative particle, also known as 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N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man Numer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per (I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on  (II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ium (III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n (IV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helpful to label your periodic table with the oxidation states of the common 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ming Transition Metal Compound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xcept zinc, cadmium—always +2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ilver always +1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If you notice that the formula of a compound has a transition metal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(except Zn, Cd, Ag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you </a:t>
            </a:r>
            <a:r>
              <a:rPr b="0" lang="en-US" sz="2800" spc="-1" strike="noStrike" u="sng">
                <a:solidFill>
                  <a:srgbClr val="6600cc"/>
                </a:solidFill>
                <a:uFillTx/>
                <a:latin typeface="Arial"/>
              </a:rPr>
              <a:t>must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 u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a Roman numeral in the compound nam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Iron (II) 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Copper (II)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Chromium (II) nit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that the Roman numera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ft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rresponds to the subscript of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THER ATO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Transition Metal Formula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xcept zinc, cadmium—always +2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ilver always +1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8915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pper (II) fluori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cc"/>
                </a:solidFill>
                <a:uFillTx/>
                <a:latin typeface="Arial"/>
              </a:rPr>
              <a:t>Step 1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 Write element symbols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C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Step 2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Put oxidation numbers above each element (The Roman numeral “(II)” gives the oxidation number for copper as +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u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+2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ep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subscripts 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ke the charge total = zer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.e. “criss-cross”.  </a:t>
            </a:r>
            <a:r>
              <a:rPr b="0" lang="en-US" sz="2400" spc="-1" strike="noStrike">
                <a:solidFill>
                  <a:srgbClr val="b4149d"/>
                </a:solidFill>
                <a:latin typeface="Arial"/>
              </a:rPr>
              <a:t>Note: Use parentheses if you need more than one of a polyatomic ion on other formu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149d"/>
                </a:solidFill>
                <a:latin typeface="Arial"/>
              </a:rPr>
              <a:t>Copper II phosph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Cu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--- &gt;   C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 baseline="-25000">
                <a:solidFill>
                  <a:srgbClr val="b4149d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formulas for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n (II)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per (I)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 (IV) sulf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following comp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b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yatomic 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common chemical formulas contain polyatomic ions, which are groups of atom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on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gether, that carry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ar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your list of polyatomic ions ON your class periodic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atomic ion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ay toge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a group as they undergo reac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Polyatomic 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Hydroxide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O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ookman Old Style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Nitrate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N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ookman Old Style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Sulfate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ookman Old Style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Chlorate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Cl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ookman Old Style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4149d"/>
                </a:solidFill>
                <a:latin typeface="Bookman Old Style"/>
              </a:rPr>
              <a:t>Ammonium </a:t>
            </a:r>
            <a:r>
              <a:rPr b="1" lang="en-US" sz="2800" spc="-1" strike="noStrike">
                <a:solidFill>
                  <a:srgbClr val="b4149d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b4149d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b4149d"/>
                </a:solidFill>
                <a:latin typeface="Bookman Old Style"/>
              </a:rPr>
              <a:t>NH</a:t>
            </a:r>
            <a:r>
              <a:rPr b="1" lang="en-US" sz="2800" spc="-1" strike="noStrike" baseline="-25000">
                <a:solidFill>
                  <a:srgbClr val="b4149d"/>
                </a:solidFill>
                <a:latin typeface="Bookman Old Style"/>
              </a:rPr>
              <a:t>4</a:t>
            </a:r>
            <a:r>
              <a:rPr b="1" lang="en-US" sz="2800" spc="-1" strike="noStrike" baseline="30000">
                <a:solidFill>
                  <a:srgbClr val="b4149d"/>
                </a:solidFill>
                <a:latin typeface="Bookman Old Style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yatomic ions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g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meaning they ha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tra electr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4149d"/>
                </a:solidFill>
                <a:latin typeface="Arial"/>
              </a:rPr>
              <a:t>Ammonium is the </a:t>
            </a:r>
            <a:r>
              <a:rPr b="0" lang="en-US" sz="2800" spc="-1" strike="noStrike" u="sng">
                <a:solidFill>
                  <a:srgbClr val="b4149d"/>
                </a:solidFill>
                <a:uFillTx/>
                <a:latin typeface="Arial"/>
              </a:rPr>
              <a:t>only </a:t>
            </a:r>
            <a:r>
              <a:rPr b="0" lang="en-US" sz="2800" spc="-1" strike="noStrike">
                <a:solidFill>
                  <a:srgbClr val="b4149d"/>
                </a:solidFill>
                <a:latin typeface="Arial"/>
              </a:rPr>
              <a:t>polyatomic ion </a:t>
            </a:r>
            <a:r>
              <a:rPr b="1" i="1" lang="en-US" sz="2800" spc="-1" strike="noStrike">
                <a:solidFill>
                  <a:srgbClr val="b4149d"/>
                </a:solidFill>
                <a:latin typeface="Arial"/>
              </a:rPr>
              <a:t>we use</a:t>
            </a:r>
            <a:r>
              <a:rPr b="0" lang="en-US" sz="2800" spc="-1" strike="noStrike">
                <a:solidFill>
                  <a:srgbClr val="b4149d"/>
                </a:solidFill>
                <a:latin typeface="Arial"/>
              </a:rPr>
              <a:t> that is </a:t>
            </a:r>
            <a:r>
              <a:rPr b="0" lang="en-US" sz="2800" spc="-1" strike="noStrike" u="sng">
                <a:solidFill>
                  <a:srgbClr val="b4149d"/>
                </a:solidFill>
                <a:uFillTx/>
                <a:latin typeface="Arial"/>
              </a:rPr>
              <a:t>positive</a:t>
            </a:r>
            <a:r>
              <a:rPr b="0" lang="en-US" sz="2800" spc="-1" strike="noStrike">
                <a:solidFill>
                  <a:srgbClr val="b4149d"/>
                </a:solidFill>
                <a:latin typeface="Arial"/>
              </a:rPr>
              <a:t>.  It has given away an electr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unds with Polyatomic 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ompounds will have at leas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ree ele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 metal, and then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lyatom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meta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then the polyatomic ion.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on’t change the name of the polyatomic 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ing Ternary Compound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3 or more element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dium ni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ium sulf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ium 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monium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Cl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 chlo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you se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ree or m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ok for a hidde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lyatomic 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ver say “calcium sulfur oxid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ing Formulas for Compounds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ontaining Polyatomic 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ut a periodic table and a formula chart with the polyatomic ions on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three step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Example: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Calcium chlo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man Old Style"/>
              </a:rPr>
              <a:t>Step 1  Write the symbols (polyatomic ion formul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man Old Style"/>
              </a:rPr>
              <a:t>          </a:t>
            </a:r>
            <a:r>
              <a:rPr b="0" lang="en-US" sz="2800" spc="-1" strike="noStrike">
                <a:solidFill>
                  <a:srgbClr val="006600"/>
                </a:solidFill>
                <a:latin typeface="Bookman Old Style"/>
              </a:rPr>
              <a:t>representing the name given)    </a:t>
            </a:r>
            <a:r>
              <a:rPr b="1" lang="en-US" sz="2800" spc="-1" strike="noStrike">
                <a:solidFill>
                  <a:srgbClr val="006600"/>
                </a:solidFill>
                <a:latin typeface="Bookman Old Style"/>
              </a:rPr>
              <a:t>CaCl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Bookman Old Styl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Bookman Old Style"/>
              </a:rPr>
              <a:t>Step 2  Label charges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6600cc"/>
                </a:solidFill>
                <a:latin typeface="Bookman Old Style"/>
              </a:rPr>
              <a:t>Ca</a:t>
            </a:r>
            <a:r>
              <a:rPr b="1" lang="en-US" sz="2800" spc="-1" strike="noStrike" baseline="30000">
                <a:solidFill>
                  <a:srgbClr val="6600cc"/>
                </a:solidFill>
                <a:latin typeface="Bookman Old Style"/>
              </a:rPr>
              <a:t>+2 </a:t>
            </a:r>
            <a:r>
              <a:rPr b="1" lang="en-US" sz="2800" spc="-1" strike="noStrike">
                <a:solidFill>
                  <a:srgbClr val="6600cc"/>
                </a:solidFill>
                <a:latin typeface="Bookman Old Style"/>
              </a:rPr>
              <a:t>ClO</a:t>
            </a:r>
            <a:r>
              <a:rPr b="1" lang="en-US" sz="2800" spc="-1" strike="noStrike" baseline="-25000">
                <a:solidFill>
                  <a:srgbClr val="6600cc"/>
                </a:solidFill>
                <a:latin typeface="Bookman Old Style"/>
              </a:rPr>
              <a:t>3</a:t>
            </a:r>
            <a:r>
              <a:rPr b="1" lang="en-US" sz="2800" spc="-1" strike="noStrike" baseline="30000">
                <a:solidFill>
                  <a:srgbClr val="6600cc"/>
                </a:solidFill>
                <a:latin typeface="Bookman Old Style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Bookman Old Style"/>
              </a:rPr>
              <a:t>Step 3  Write subscripts that balance the char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Bookman Old Style"/>
              </a:rPr>
              <a:t>                                    </a:t>
            </a:r>
            <a:r>
              <a:rPr b="1" lang="en-US" sz="2800" spc="-1" strike="noStrike">
                <a:solidFill>
                  <a:srgbClr val="cc0000"/>
                </a:solidFill>
                <a:latin typeface="Bookman Old Style"/>
              </a:rPr>
              <a:t>Ca(ClO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Bookman Old Style"/>
              </a:rPr>
              <a:t>3</a:t>
            </a:r>
            <a:r>
              <a:rPr b="1" lang="en-US" sz="2800" spc="-1" strike="noStrike">
                <a:solidFill>
                  <a:srgbClr val="cc0000"/>
                </a:solidFill>
                <a:latin typeface="Bookman Old Style"/>
              </a:rPr>
              <a:t>)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Bookman Old Styl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Bookman Old Style"/>
              </a:rPr>
              <a:t>Step 4:  Erase charges from you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roperties of Ionic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Many ionic compounds </a:t>
            </a:r>
            <a:r>
              <a:rPr b="0" lang="en-US" sz="3200" spc="-1" strike="noStrike" u="sng">
                <a:solidFill>
                  <a:srgbClr val="6600cc"/>
                </a:solidFill>
                <a:uFillTx/>
                <a:latin typeface="Arial"/>
              </a:rPr>
              <a:t>dissolve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 in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414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149d"/>
                </a:solidFill>
                <a:latin typeface="Arial"/>
              </a:rPr>
              <a:t>Solutions of ionic compounds conduct electricity.  Ions can </a:t>
            </a:r>
            <a:r>
              <a:rPr b="0" lang="en-US" sz="3200" spc="-1" strike="noStrike" u="sng">
                <a:solidFill>
                  <a:srgbClr val="b4149d"/>
                </a:solidFill>
                <a:uFillTx/>
                <a:latin typeface="Arial"/>
              </a:rPr>
              <a:t>move</a:t>
            </a:r>
            <a:r>
              <a:rPr b="0" lang="en-US" sz="3200" spc="-1" strike="noStrike">
                <a:solidFill>
                  <a:srgbClr val="b4149d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se solutions are called “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Electrolyte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Ionic compounds have </a:t>
            </a:r>
            <a:r>
              <a:rPr b="0" lang="en-US" sz="3200" spc="-1" strike="noStrike" u="sng">
                <a:solidFill>
                  <a:srgbClr val="663300"/>
                </a:solidFill>
                <a:uFillTx/>
                <a:latin typeface="Arial"/>
              </a:rPr>
              <a:t>very high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melting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When melted “</a:t>
            </a:r>
            <a:r>
              <a:rPr b="0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molten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” they conduct electricity.  Ions can move!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(melted salts are conduc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Exist as crystals in a “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crystal lattice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Dot 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we can understand the formation of an ionic bond, we need to know two th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ctet Ru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ne of the most important rules in chemis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writ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lectron Dot No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each element on the Periodic 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8991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ids that we will study in this unit are easy to recognize,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hey contain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one or more hydrogen atoms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at the beginning of their formu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n acid is a compound that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dissociate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(splits up) in water to produce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hydrogen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Hydrochloric 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s apart in water to f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 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b4149d"/>
                </a:solidFill>
                <a:latin typeface="Arial"/>
              </a:rPr>
              <a:t>hydrogen ions and chloride 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10960" y="5410080"/>
            <a:ext cx="450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Bookman Old Style"/>
              </a:rPr>
              <a:t>HCl</a:t>
            </a: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4400" spc="-1" strike="noStrike">
                <a:solidFill>
                  <a:srgbClr val="b4149d"/>
                </a:solidFill>
                <a:latin typeface="Bookman Old Style"/>
              </a:rPr>
              <a:t>H</a:t>
            </a:r>
            <a:r>
              <a:rPr b="1" lang="en-US" sz="4400" spc="-1" strike="noStrike" baseline="30000">
                <a:solidFill>
                  <a:srgbClr val="b4149d"/>
                </a:solidFill>
                <a:latin typeface="Bookman Old Style"/>
              </a:rPr>
              <a:t>+1</a:t>
            </a:r>
            <a:r>
              <a:rPr b="1" lang="en-US" sz="4400" spc="-1" strike="noStrike">
                <a:solidFill>
                  <a:srgbClr val="b4149d"/>
                </a:solidFill>
                <a:latin typeface="Bookman Old Style"/>
              </a:rPr>
              <a:t>  +  Cl</a:t>
            </a:r>
            <a:r>
              <a:rPr b="1" lang="en-US" sz="4400" spc="-1" strike="noStrike" baseline="30000">
                <a:solidFill>
                  <a:srgbClr val="b4149d"/>
                </a:solidFill>
                <a:latin typeface="Bookman Old Style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Binary Acid Nomencl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Binary means </a:t>
            </a:r>
            <a:r>
              <a:rPr b="0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two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 e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These will have </a:t>
            </a:r>
            <a:r>
              <a:rPr b="0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hydrogen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 and </a:t>
            </a:r>
            <a:r>
              <a:rPr b="0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one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 other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. Use the prefix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Hydro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2. Put an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–ic ending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on the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cond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3. Add the word “aci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ydro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chlo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c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Br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ydro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bro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c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F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ydro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fluo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c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52120" y="0"/>
            <a:ext cx="5334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Oxy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cids will cont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ydro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lyatomic 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ich has one or mo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xyge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ion ends in 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</a:rPr>
              <a:t>–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nge it to an 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</a:rPr>
              <a:t>–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Nitr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ntains the nitr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Sulfur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ntains the sulf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Yuck! I ATE something ICKY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553080" y="4419720"/>
            <a:ext cx="1752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Oxyaci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the polyatomic ion ends in 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–i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change it to 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–ou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he word “aci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Nitr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rite 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lfur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lfite 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B</a:t>
            </a:r>
            <a:r>
              <a:rPr b="1" lang="en-US" sz="4000" spc="-1" strike="noStrike" u="sng">
                <a:solidFill>
                  <a:srgbClr val="cc0000"/>
                </a:solidFill>
                <a:uFillTx/>
                <a:latin typeface="Arial"/>
              </a:rPr>
              <a:t>ites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 are delici</a:t>
            </a:r>
            <a:r>
              <a:rPr b="1" lang="en-US" sz="4000" spc="-1" strike="noStrike" u="sng">
                <a:solidFill>
                  <a:srgbClr val="cc0000"/>
                </a:solidFill>
                <a:uFillTx/>
                <a:latin typeface="Arial"/>
              </a:rPr>
              <a:t>o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rcRect l="29999" t="0" r="4996" b="0"/>
          <a:stretch/>
        </p:blipFill>
        <p:spPr>
          <a:xfrm>
            <a:off x="5943600" y="4132440"/>
            <a:ext cx="281952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Dot 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represents the eleme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ym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ots represe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al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ttern for drawing electrons helps us to understand how atoms lose or gain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ximum number of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le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s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8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781680" y="2895480"/>
            <a:ext cx="2057400" cy="1892520"/>
            <a:chOff x="6781680" y="2895480"/>
            <a:chExt cx="2057400" cy="18925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7095960" y="3147840"/>
              <a:ext cx="142884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467480" y="28954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  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781680" y="3429000"/>
              <a:ext cx="4572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467480" y="44197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  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381880" y="3429000"/>
              <a:ext cx="4572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ctet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Octet Ru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Atoms will either lose, gain, or share valence electrons in order to obtain a full set of eight (8) valence electr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Valence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- refers to the outer electrons in an atom.  These are the electrons on the outer shell, which is the highest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energy le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ectron Dot No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457200"/>
            <a:ext cx="8686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For th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Representative Groups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, which are also called th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A Groups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, the Group Number is equal to the number of valence electr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(The ones digit of group numbers 1 , 2 ,  through 18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out you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eriodic T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draw the electron dot notation for the first two elements in each group.  The other elements in that group will be the s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Use these example to help you draw dot not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80880" y="4724280"/>
            <a:ext cx="8001000" cy="914400"/>
            <a:chOff x="380880" y="4724280"/>
            <a:chExt cx="8001000" cy="914400"/>
          </a:xfrm>
        </p:grpSpPr>
        <p:sp>
          <p:nvSpPr>
            <p:cNvPr id="63" name=""/>
            <p:cNvSpPr/>
            <p:nvPr/>
          </p:nvSpPr>
          <p:spPr>
            <a:xfrm>
              <a:off x="1373400" y="4780080"/>
              <a:ext cx="67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cc"/>
                  </a:solidFill>
                  <a:latin typeface="Arial"/>
                </a:rPr>
                <a:t>B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0880" y="4784760"/>
              <a:ext cx="1219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Li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362320" y="4800600"/>
              <a:ext cx="1218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2514600" y="4724280"/>
              <a:ext cx="533520" cy="380880"/>
              <a:chOff x="2514600" y="4724280"/>
              <a:chExt cx="533520" cy="380880"/>
            </a:xfrm>
          </p:grpSpPr>
          <p:sp>
            <p:nvSpPr>
              <p:cNvPr id="67" name=""/>
              <p:cNvSpPr/>
              <p:nvPr/>
            </p:nvSpPr>
            <p:spPr>
              <a:xfrm>
                <a:off x="2743200" y="472428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895480" y="4724280"/>
                <a:ext cx="15264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514600" y="495288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762120" y="4724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23880" y="4724280"/>
              <a:ext cx="152640" cy="15264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76520" y="4724280"/>
              <a:ext cx="152280" cy="15264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3429000" y="4724280"/>
              <a:ext cx="533520" cy="380880"/>
              <a:chOff x="3429000" y="4724280"/>
              <a:chExt cx="533520" cy="380880"/>
            </a:xfrm>
          </p:grpSpPr>
          <p:sp>
            <p:nvSpPr>
              <p:cNvPr id="74" name=""/>
              <p:cNvSpPr/>
              <p:nvPr/>
            </p:nvSpPr>
            <p:spPr>
              <a:xfrm>
                <a:off x="3657600" y="4724280"/>
                <a:ext cx="152280" cy="152280"/>
              </a:xfrm>
              <a:prstGeom prst="ellipse">
                <a:avLst/>
              </a:prstGeom>
              <a:solidFill>
                <a:srgbClr val="b4149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09880" y="4724280"/>
                <a:ext cx="152640" cy="152280"/>
              </a:xfrm>
              <a:prstGeom prst="ellipse">
                <a:avLst/>
              </a:prstGeom>
              <a:solidFill>
                <a:srgbClr val="b4149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429000" y="4952880"/>
                <a:ext cx="152280" cy="152280"/>
              </a:xfrm>
              <a:prstGeom prst="ellipse">
                <a:avLst/>
              </a:prstGeom>
              <a:solidFill>
                <a:srgbClr val="b4149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3657600" y="5334120"/>
              <a:ext cx="152280" cy="152280"/>
            </a:xfrm>
            <a:prstGeom prst="ellipse">
              <a:avLst/>
            </a:prstGeom>
            <a:solidFill>
              <a:srgbClr val="b4149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4343400" y="4724280"/>
              <a:ext cx="533520" cy="380880"/>
              <a:chOff x="4343400" y="4724280"/>
              <a:chExt cx="533520" cy="380880"/>
            </a:xfrm>
          </p:grpSpPr>
          <p:sp>
            <p:nvSpPr>
              <p:cNvPr id="79" name=""/>
              <p:cNvSpPr/>
              <p:nvPr/>
            </p:nvSpPr>
            <p:spPr>
              <a:xfrm>
                <a:off x="4572000" y="4724280"/>
                <a:ext cx="152280" cy="1522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724280" y="4724280"/>
                <a:ext cx="152640" cy="1522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343400" y="4952880"/>
                <a:ext cx="152280" cy="1522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6920" y="5029200"/>
              <a:ext cx="152280" cy="15228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5410080" y="4724280"/>
              <a:ext cx="533520" cy="380880"/>
              <a:chOff x="5410080" y="4724280"/>
              <a:chExt cx="533520" cy="380880"/>
            </a:xfrm>
          </p:grpSpPr>
          <p:sp>
            <p:nvSpPr>
              <p:cNvPr id="85" name=""/>
              <p:cNvSpPr/>
              <p:nvPr/>
            </p:nvSpPr>
            <p:spPr>
              <a:xfrm>
                <a:off x="5638680" y="4724280"/>
                <a:ext cx="152280" cy="152280"/>
              </a:xfrm>
              <a:prstGeom prst="ellipse">
                <a:avLst/>
              </a:prstGeom>
              <a:solidFill>
                <a:srgbClr val="00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790960" y="4724280"/>
                <a:ext cx="152640" cy="152280"/>
              </a:xfrm>
              <a:prstGeom prst="ellipse">
                <a:avLst/>
              </a:prstGeom>
              <a:solidFill>
                <a:srgbClr val="00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410080" y="4952880"/>
                <a:ext cx="152280" cy="152280"/>
              </a:xfrm>
              <a:prstGeom prst="ellipse">
                <a:avLst/>
              </a:prstGeom>
              <a:solidFill>
                <a:srgbClr val="00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5410080" y="5105520"/>
              <a:ext cx="152640" cy="15228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638680" y="5334120"/>
              <a:ext cx="152640" cy="15228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43600" y="4952880"/>
              <a:ext cx="152280" cy="1526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6400800" y="4800600"/>
              <a:ext cx="533520" cy="380880"/>
              <a:chOff x="6400800" y="4800600"/>
              <a:chExt cx="533520" cy="380880"/>
            </a:xfrm>
          </p:grpSpPr>
          <p:sp>
            <p:nvSpPr>
              <p:cNvPr id="92" name=""/>
              <p:cNvSpPr/>
              <p:nvPr/>
            </p:nvSpPr>
            <p:spPr>
              <a:xfrm>
                <a:off x="6629400" y="48006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781680" y="4800600"/>
                <a:ext cx="15264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400800" y="50292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6400800" y="51814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553080" y="5486400"/>
              <a:ext cx="152640" cy="152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934320" y="51814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34320" y="5029200"/>
              <a:ext cx="152280" cy="152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06760" y="48006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b4149d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421160" y="48006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3300"/>
                  </a:solidFill>
                  <a:latin typeface="Arial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7480" y="48006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00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54520" y="495288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21200" y="4876920"/>
              <a:ext cx="70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Arial"/>
                </a:rPr>
                <a:t>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7543800" y="4800600"/>
              <a:ext cx="533520" cy="380880"/>
              <a:chOff x="7543800" y="4800600"/>
              <a:chExt cx="533520" cy="380880"/>
            </a:xfrm>
          </p:grpSpPr>
          <p:sp>
            <p:nvSpPr>
              <p:cNvPr id="105" name=""/>
              <p:cNvSpPr/>
              <p:nvPr/>
            </p:nvSpPr>
            <p:spPr>
              <a:xfrm>
                <a:off x="7772400" y="4800600"/>
                <a:ext cx="152280" cy="1522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924680" y="4800600"/>
                <a:ext cx="152640" cy="1522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543800" y="5029200"/>
                <a:ext cx="152280" cy="1522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7543800" y="5181480"/>
              <a:ext cx="152280" cy="1526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924680" y="5486400"/>
              <a:ext cx="152640" cy="152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72400" y="5486400"/>
              <a:ext cx="152280" cy="152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29600" y="5257800"/>
              <a:ext cx="152280" cy="152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229600" y="5029200"/>
              <a:ext cx="152280" cy="152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eling the Periodic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One exception: 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Helium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only has two electrons, and we show them as a p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toms which have a full set of valence electrons ar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very stabl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, as stable as Nobel Gases.  (stable = not reac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p the Transition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6629400" y="4038480"/>
            <a:ext cx="1876320" cy="1876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rcRect l="0" t="14282" r="0" b="0"/>
          <a:stretch/>
        </p:blipFill>
        <p:spPr>
          <a:xfrm>
            <a:off x="6324480" y="1905120"/>
            <a:ext cx="2257560" cy="2286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7924680" y="3657600"/>
            <a:ext cx="304920" cy="304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7924680" y="3657240"/>
            <a:ext cx="30492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0" y="1981080"/>
            <a:ext cx="304920" cy="304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tion of an Ionic B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Ionic Bonds always involve the </a:t>
            </a:r>
            <a:r>
              <a:rPr b="0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transfer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of electrons from a </a:t>
            </a:r>
            <a:r>
              <a:rPr b="0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metal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to a </a:t>
            </a:r>
            <a:r>
              <a:rPr b="0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nonme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y do this so that each may obey th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Octet R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867280" y="1905120"/>
            <a:ext cx="301464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dium Chloride (table sal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famous “salt” of al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ctually, any ionic compound is a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sal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he outer electron of the sodium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transfers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to the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hen, the oppositely charged particles </a:t>
            </a:r>
            <a:r>
              <a:rPr b="0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stick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together by static electr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943600" y="1676520"/>
            <a:ext cx="2643120" cy="2643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086600" y="3657600"/>
            <a:ext cx="68580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rcRect l="0" t="64085" r="0" b="0"/>
          <a:stretch/>
        </p:blipFill>
        <p:spPr>
          <a:xfrm>
            <a:off x="5791320" y="4876920"/>
            <a:ext cx="26762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5T21:49:02Z</dcterms:created>
  <dc:creator>Katrina Cantrell</dc:creator>
  <dc:description/>
  <dc:language>en-US</dc:language>
  <cp:lastModifiedBy>dpeterson</cp:lastModifiedBy>
  <dcterms:modified xsi:type="dcterms:W3CDTF">2014-10-16T13:20:20Z</dcterms:modified>
  <cp:revision>73</cp:revision>
  <dc:subject/>
  <dc:title>Ionic Bonding</dc:title>
</cp:coreProperties>
</file>