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159-DE49-41D8-AD6A-65EDD326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5CF-A4C6-4A2A-97F7-52CAE4F5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B3E-2CCA-4254-B71F-328D900C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1DD-FD5F-432E-BECB-09B38837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245-B0B5-4DA4-957A-AFF126A2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E4D-CB05-4348-8F58-CD09DE1E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A21-C3F6-4C70-9464-42444CB0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C2D-96D5-4C16-AC89-33242763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F18-FCE0-4E02-80E9-5324CE51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AF6-5531-453F-ADB8-9DD4A6F1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143-E373-4244-8519-0913129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509-CB26-47FB-9BB4-B2904CD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6DAF-E04D-4A51-AFB4-6F6C5A17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05440" y="188280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448080" cy="468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1524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518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form 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tals almost alway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s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heir outer electrons, forming positi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elec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ach time, the metals lose their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utermos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valence electrons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he energy level  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elow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i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 form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metals almost alway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ga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, and  become negativ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1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 now has 18 e, ju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rg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+ 2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+ 3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ime, the nonmetals gains the number of electrons needed to obta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8 val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ation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tom would have if it became 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Periodic Table and label the A Groups as follow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Silver = +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Zinc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Cadmium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menclatur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a system fo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aming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hemical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ve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fic 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e will start with the simplest type of ionic compound, a binary ionic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- means just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two element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ar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149d"/>
                </a:solidFill>
                <a:latin typeface="Arial"/>
              </a:rPr>
              <a:t>Ionic Bond-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-means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et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with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1. Name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etal 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2. Then nam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nonmetal,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with an “</a:t>
            </a:r>
            <a:r>
              <a:rPr b="1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ide”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chlor</a:t>
            </a:r>
            <a:r>
              <a:rPr b="1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 bro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fluo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 Writing 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nary Ion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metimes you will be given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am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of a compound and be asked to writ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s requires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thre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careful steps, and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eriodic tab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Do not guess.   Follow the ste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most right” 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Writing Example:  Aluminum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P 1:  write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ymbo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metal first, then nonmeta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:  above each symbol, write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xid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O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Ad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the overall charge of the compound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“criss-cross” + 6 and - 6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ep 4: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Erase the oxidation numbers, they are NOT  part of the formula, they just help us get the correct subscripts!)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2438280" cy="1920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4038480"/>
            <a:ext cx="2133720" cy="157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3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2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2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3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ransition Metals – Groups 3 – 12   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                              The B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ransition metals have more than one possi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idation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Sometimes they give away one electron, sometimes two, etc.  up to losing 7 electrons!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is always +1, Zinc is always +2, and Cadmium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metals like Lead and Tin, also requir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 Nume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lem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oman numeral?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It’s faster to say which ones don’t!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re are a few others, but we won’t ask about them—oka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763120" cy="475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1523880"/>
            <a:ext cx="990720" cy="358164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048120"/>
            <a:ext cx="53352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657600"/>
            <a:ext cx="533520" cy="4572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457200" cy="144792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2666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36576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3124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0384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3124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581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40384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6248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rk these on your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types of chemical bond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val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l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 of bond we will study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onic bond is an electrostat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 positive particle, also known 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 negative particle, also known 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Num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(I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 (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ium (I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elpful to label your periodic table with the oxidation states of the common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Transition Metal Comp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If you notice that the formula of a compound has a transition metal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except Zn, Cd, 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you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a Roman numeral in the compound na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ron (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pper (II)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hromium (II) 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Roman numer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s to the subscript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A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ransition Metal Formul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pper (II) fluo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Write element symbols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Put oxidation numbers above each element (The Roman numeral “(II)” gives the oxidation number for copper as +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2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ubscripts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the charge total = 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“criss-cross”.  </a:t>
            </a:r>
            <a:r>
              <a:rPr b="0" lang="en-US" sz="2400" spc="-1" strike="noStrike">
                <a:solidFill>
                  <a:srgbClr val="b4149d"/>
                </a:solidFill>
                <a:latin typeface="Arial"/>
              </a:rPr>
              <a:t>Note: Use parentheses if you need more than one of a polyatomic ion on other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149d"/>
                </a:solidFill>
                <a:latin typeface="Arial"/>
              </a:rPr>
              <a:t>Copper II 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--- &gt;   C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b414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mulas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(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(IV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on chemical formulas contain polyatomic ions, which are groups of ato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gether, that carry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our list of polyatomic ions ON your class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atomic 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y 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group as they undergo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Hydroxid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it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ulf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hlo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Ammonium 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NH</a:t>
            </a:r>
            <a:r>
              <a:rPr b="1" lang="en-US" sz="2800" spc="-1" strike="noStrike" baseline="-25000">
                <a:solidFill>
                  <a:srgbClr val="b4149d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atomic ion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ning they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tra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Ammonium is the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only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polyatomic ion </a:t>
            </a:r>
            <a:r>
              <a:rPr b="1" i="1" lang="en-US" sz="2800" spc="-1" strike="noStrike">
                <a:solidFill>
                  <a:srgbClr val="b4149d"/>
                </a:solidFill>
                <a:latin typeface="Arial"/>
              </a:rPr>
              <a:t>we us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 that is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.  It has given away an elect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s with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will have at le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metal, and th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yat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e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the polyatomic ion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n’t change the name of the polyatomic 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Ternary Compound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 or more elem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se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 for a hidd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ver say “calcium sulfur oxi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Formulas for Compoun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aining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ut a periodic table and a formula chart with the polyatomic ions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hree step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xample: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Step 1  Write the symbols (polyatomic ion formu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          </a:t>
            </a: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representing the name given)    </a:t>
            </a:r>
            <a:r>
              <a:rPr b="1" lang="en-US" sz="2800" spc="-1" strike="noStrike">
                <a:solidFill>
                  <a:srgbClr val="006600"/>
                </a:solidFill>
                <a:latin typeface="Bookman Old Style"/>
              </a:rPr>
              <a:t>CaCl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Bookman Old Style"/>
              </a:rPr>
              <a:t>Step 2  Label charge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+2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Step 3  Write subscripts that balance the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Ca(Cl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)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ookman Old Style"/>
              </a:rPr>
              <a:t>Step 4:  Erase charges from you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any ionic compounds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issolv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lutions of ionic compounds conduct electricity.  Ions can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ov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se solutions are called “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ctroly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onic compounds have 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very high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melting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melted “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molte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” they conduct electricity.  Ions can move!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melted salts are condu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ist as crystals in a 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rystal latti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can understand the formation of an ionic bond, we need to know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ctet 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e of the most important rules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ron Dot 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element on the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ids that we will study in this unit are easy to recogniz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y contain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ne or more hydrogen atom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at the beginning of their 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 acid is a compound th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issocia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splits up) in water to produc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Hydrochlor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s apart in water to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hydrogen ions and chloride 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0960" y="5410080"/>
            <a:ext cx="45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ookman Old Style"/>
              </a:rPr>
              <a:t>HCl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H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  +  Cl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inary Acid 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Binary means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hese will hav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. Use the prefix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Put a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–ic end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. 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hl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br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flu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cids will cont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yatomic 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has one or 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ion ends i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t to a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Sulfu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sulf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uck! I ATE something ICKY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polyatomic ion ends in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hange it to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it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ites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are delici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9999" t="0" r="4996" b="0"/>
          <a:stretch/>
        </p:blipFill>
        <p:spPr>
          <a:xfrm>
            <a:off x="5943600" y="4132440"/>
            <a:ext cx="2819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represents the elem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ts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tern for drawing electrons helps us to understand how atoms lose or gain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ximum number o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680" y="2895480"/>
            <a:ext cx="2057400" cy="1892520"/>
            <a:chOff x="6781680" y="2895480"/>
            <a:chExt cx="2057400" cy="18925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095960" y="314784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467480" y="289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44197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18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cte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Octe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toms will either lose, gain, or share valence electrons in order to obtain a full set of eight (8)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alen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refers to the outer electrons in an atom.  These are the electrons on the outer shell, which is the highest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energy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or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presentative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which are also called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the Group Number is equal to the number of valenc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The ones digit of group numbers 1 , 2 ,  through 1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iodic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raw the electron dot notation for the first two elements in each group.  The other elements in that group will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Use these example to help you draw dot no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4724280"/>
            <a:ext cx="8001000" cy="914400"/>
            <a:chOff x="380880" y="4724280"/>
            <a:chExt cx="8001000" cy="914400"/>
          </a:xfrm>
        </p:grpSpPr>
        <p:sp>
          <p:nvSpPr>
            <p:cNvPr id="63" name=""/>
            <p:cNvSpPr/>
            <p:nvPr/>
          </p:nvSpPr>
          <p:spPr>
            <a:xfrm>
              <a:off x="1373400" y="47800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Arial"/>
                </a:rPr>
                <a:t>B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880" y="47847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2320" y="480060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514600" y="4724280"/>
              <a:ext cx="533520" cy="380880"/>
              <a:chOff x="2514600" y="4724280"/>
              <a:chExt cx="533520" cy="380880"/>
            </a:xfrm>
          </p:grpSpPr>
          <p:sp>
            <p:nvSpPr>
              <p:cNvPr id="67" name=""/>
              <p:cNvSpPr/>
              <p:nvPr/>
            </p:nvSpPr>
            <p:spPr>
              <a:xfrm>
                <a:off x="2743200" y="47242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4724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1460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62120" y="4724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3880" y="4724280"/>
              <a:ext cx="15264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4724280"/>
              <a:ext cx="15228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429000" y="4724280"/>
              <a:ext cx="533520" cy="380880"/>
              <a:chOff x="3429000" y="4724280"/>
              <a:chExt cx="53352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3657600" y="47242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09880" y="4724280"/>
                <a:ext cx="15264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29000" y="49528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657600" y="5334120"/>
              <a:ext cx="152280" cy="152280"/>
            </a:xfrm>
            <a:prstGeom prst="ellipse">
              <a:avLst/>
            </a:prstGeom>
            <a:solidFill>
              <a:srgbClr val="b414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343400" y="4724280"/>
              <a:ext cx="533520" cy="380880"/>
              <a:chOff x="4343400" y="4724280"/>
              <a:chExt cx="533520" cy="380880"/>
            </a:xfrm>
          </p:grpSpPr>
          <p:sp>
            <p:nvSpPr>
              <p:cNvPr id="79" name=""/>
              <p:cNvSpPr/>
              <p:nvPr/>
            </p:nvSpPr>
            <p:spPr>
              <a:xfrm>
                <a:off x="4572000" y="47242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4280" y="4724280"/>
                <a:ext cx="15264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43400" y="49528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6920" y="502920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410080" y="4724280"/>
              <a:ext cx="533520" cy="380880"/>
              <a:chOff x="5410080" y="4724280"/>
              <a:chExt cx="53352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5638680" y="47242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90960" y="4724280"/>
                <a:ext cx="15264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0080" y="49528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5410080" y="51055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53341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4952880"/>
              <a:ext cx="152280" cy="152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400800" y="4800600"/>
              <a:ext cx="533520" cy="380880"/>
              <a:chOff x="6400800" y="4800600"/>
              <a:chExt cx="5335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6629400" y="4800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81680" y="480060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00800" y="50292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400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50292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67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4149d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11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7480" y="4800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4520" y="4952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0" y="48769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543800" y="4800600"/>
              <a:ext cx="533520" cy="380880"/>
              <a:chOff x="7543800" y="4800600"/>
              <a:chExt cx="533520" cy="380880"/>
            </a:xfrm>
          </p:grpSpPr>
          <p:sp>
            <p:nvSpPr>
              <p:cNvPr id="105" name=""/>
              <p:cNvSpPr/>
              <p:nvPr/>
            </p:nvSpPr>
            <p:spPr>
              <a:xfrm>
                <a:off x="7772400" y="48006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24680" y="4800600"/>
                <a:ext cx="15264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43800" y="50292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543800" y="5181480"/>
              <a:ext cx="15228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54864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9600" y="52578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29600" y="50292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e exception: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um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ly has two electrons, and we show them as a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oms which have a full set of valence electrons ar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very st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as stable as Nobel Gases.  (stable = not re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 th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629400" y="4038480"/>
            <a:ext cx="1876320" cy="187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14282" r="0" b="0"/>
          <a:stretch/>
        </p:blipFill>
        <p:spPr>
          <a:xfrm>
            <a:off x="6324480" y="1905120"/>
            <a:ext cx="225756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3657600"/>
            <a:ext cx="30492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924680" y="365724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98108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an Ionic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onic Bonds always involve the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ransfer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of electrons from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non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do this so that each may obey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Octet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146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dium Chloride (table sal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famous “salt”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ually, any ionic compound is 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a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outer electron of the sodium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ansfer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o the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n, the oppositely charged particles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stick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gether by static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86600" y="3657600"/>
            <a:ext cx="6858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64085" r="0" b="0"/>
          <a:stretch/>
        </p:blipFill>
        <p:spPr>
          <a:xfrm>
            <a:off x="5791320" y="4876920"/>
            <a:ext cx="2676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1:49:02Z</dcterms:created>
  <dc:creator>Katrina Cantrell</dc:creator>
  <dc:description/>
  <dc:language>en-US</dc:language>
  <cp:lastModifiedBy>dpeterson</cp:lastModifiedBy>
  <dcterms:modified xsi:type="dcterms:W3CDTF">2014-10-16T13:20:20Z</dcterms:modified>
  <cp:revision>73</cp:revision>
  <dc:subject/>
  <dc:title>Ionic Bonding</dc:title>
</cp:coreProperties>
</file>